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664-0BB2-4BC5-B455-BB5C38CA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823-DE3D-4B21-8165-A9D1F6FC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F13EF-3727-429A-A709-D191358E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90C6F-F8D6-4FB4-ABB5-89A5D6C5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AEED5-6FA1-405B-AD90-B766DE00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D0AE3-AB47-4100-9D96-DF864148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7B1A1-2855-4BD6-A378-34F7458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35EF1-C4B4-46D6-9DD2-01DD0DE5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864AB-9D7B-416C-97A1-DCB908AA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D4088-8B8A-4C5D-A869-B0F201E6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A33E4-F62F-4E67-BC0E-DBFF8588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E7DE4-81B7-433E-9B69-7A30F27D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4022-8A34-4FD3-8221-5305F594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9940C-AA72-4F73-9105-DEEB1A9B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B2641-7604-4F7B-9E6B-7D13E1F1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D9A0C-B084-448C-A3A3-D4390473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D98DD-C5F8-456E-BA0E-AB1A4B17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045B8-874B-487C-BA76-A1CBC8F9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35864-1E34-4032-A65C-6007FCD4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AE2F9-6997-4C5E-BD03-2B115D8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E1819-203F-4030-8210-F6342E87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B2D9C-BA25-4B42-9B58-ECB53068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A6F2F-5330-41DB-943A-6761AE7D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9F0-5E60-42A7-8592-B73B2B94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8E9D5-A007-464D-A95E-92923EE9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DCD3F-B27E-4EB6-9430-EE61C87E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E8377-ED8A-4451-9E6E-ECD0F1B6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51E94-153D-4A12-B355-3AF48EEE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958DE-7686-43EC-BD2D-78D6724D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6EDF3-F09F-48B6-B2FA-3FCBF888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108D7-4B40-40E0-9F37-7B88E68A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32794-507A-4E7F-A40D-ECD41834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76C15-511D-41F6-9C01-274924E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04918-31DD-4908-8D9F-841A8CC6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AC68-FF8F-4A4E-86DB-4AE2F99F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40093-D9CB-44D1-B349-D7C3ED65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F8410-7E80-4E4A-9088-0F87EFE2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F3E6A-1E21-4373-BE8D-7691C5FF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89EAD-6071-4C1A-88EB-29D7F09A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6D20E-E9D6-4E8B-A570-DB93E95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B140B-F0EB-4F79-B907-5005A0F8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F47EB-B5A2-461B-992B-3C2EB9EC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55263-8677-464E-80E5-ADABCBCB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4528B-1BED-4305-9048-132DF281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7403D-C745-458D-9AD9-0796D7F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4E05-877B-4C9E-AB7D-C6F4A06B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712E9-A15F-45E9-8B3F-A3B4E1BC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D4590-D82B-48FC-B0D0-1607094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44FAE-7BBA-4FC5-AAE3-8AAF27F7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19532-60DF-411D-B2F6-83534D86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41F17-A9E1-45B0-AA4D-73DFA4CB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0142-5D02-45E2-9058-F42187C0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9460-8509-4A35-8A72-EBAB1114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F9C5-5389-4C6C-9B6A-0D202B0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83E6-E430-4258-9327-A6FCFFCD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9BC9-A635-41F6-A86D-6D515BF9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AE9-C91D-453B-B20F-D788DD4D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8D4E-8B97-49CD-94A9-947840FE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3C67-1E0A-4481-B31B-8CE092AF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247E-A5BA-44B5-A9B1-E32434AB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58A9-2C1D-4683-AB85-2BEA63C3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5D91-3169-4A1D-9972-6CD085C2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1B00-ECBA-4C41-9992-62B62FAD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36F7-3629-4E5A-87A8-E8FC776C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6AF2-72D3-4424-919A-17CDC990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1ADF-7526-4BC1-B6B3-159DAAE0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4938-6D52-4FA6-8050-509E97E5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8DE-839F-4410-9870-EB45E34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4684-9E2D-4AED-A166-38599627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FC5C-E2FE-413D-AA64-CAA3BA9F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6F7C-74DD-406F-9484-43EA8785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AD34-F4D4-4FCB-B834-AE9D95CA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A1DA-3F52-4AB9-8DB9-1439BD97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B91AC-1581-430A-8A79-141689A0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A9F8B-82DE-4C96-B0D9-21EDD28E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4433-986A-4E41-B931-BA3BC651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6AD26-705C-4F12-8FE8-A75A6881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0B895-B703-4833-BD1F-D4E748BE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C9B-3290-4666-A967-1B1645D4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00A9-B861-4A8A-8405-5544C5A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EC21D-490A-4E0A-B9C2-EF039CB7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493A-3AE5-497B-8443-5DE3D5DB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590C7-FF5D-4216-9176-2DB8825E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D691E-426C-4664-925F-FCB59B64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55F67-B487-4A9E-8109-3490C0A1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BA521-CF83-49FD-B9B2-9291D15F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C8A08-8DEE-42C1-BB4C-3EC493C5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1AFA-EBD9-4D2A-85E4-55EB5F83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FF0BF-662B-4AE8-A46E-64491790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B42-FC18-44A3-A016-880FE7B5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FF5EA-F68C-4648-9E93-17C9B761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70BB8-9093-4459-983F-512E59B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E1974-79D9-47C5-82BA-75DC9FBF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4324-F624-4308-805D-276F8806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5F578-82DA-4E8C-B834-8C62582C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0E816-247B-4ECA-B4C7-A953DD37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B5532-F815-4D56-98E3-265B013E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2B88C-F16D-4268-8A1E-F10F6B84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03860-4237-42F8-87EA-F5606FBB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7A4F-0796-4083-8C97-E6CC440A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D78-9B70-4387-98AC-F274C8A1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ED1C7-FC43-4C4C-A0C1-AE088A01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03E8E-9501-45C3-8A73-493A5DAA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709A6-26DD-4587-9CC8-E98DEF55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4993E-6603-4601-9FA1-DA541C98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E23C1-A3CA-4757-B460-78EEFCFC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F8353-2C61-4EF5-A690-87D10D9C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070A3-04C1-483E-BEF5-DB160073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3C365-2EBC-440F-953B-8BB0098A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F11A0-2717-4505-A1C9-158CB88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A8FA7-B859-47AD-AB1D-62879F0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C8D8-5552-4727-B4DD-CB77486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FE824-A881-4611-A1F4-D637FDB9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C9C96-1E2D-4E6D-9F5D-C3DE3DCD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A14F5-B69D-42F0-BC7B-8AE0146C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94FD0-7CAC-451A-B291-2A43534A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DBD68-FB6B-4F2E-BE70-340D3400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A2A12-16A3-44CD-A6F6-0E7B5BB5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71212-61C1-42D2-B576-972F0944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DFCFB-BCC7-4A60-BAC3-FEAD6996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008AD-CE72-48A4-9822-7448445E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863D6-EFCB-44DE-8B48-E9EA8E9D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DA0-56FA-4A63-A37D-7612DED3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87788-91BB-4DDF-BF31-93D5F7A1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4104-EF0F-4B81-A1C8-1210D1D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E117-4F68-489F-AF81-91E11FB8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AB06-4598-4B48-86CF-88F5D31B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A664D-FFF8-4A26-B0E0-F5E5B742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9D1D9-FF09-4B6E-B1F1-83740352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8E08B-7561-46F1-8D1C-0C56B23B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6252F-E03D-4B18-9855-9C4E2C37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2703F-F433-4CED-AFB0-BA39E74D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39A39-C5E2-4C0A-BB67-B8940DBD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E38-D239-4397-B0D6-B6261A84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E470B-3404-4D5B-BF7A-93C6797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E4775-6769-455C-AFA6-E12707FD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EE205-0B8F-41EC-A606-2A9C880D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94DED-95FB-47E9-9266-41DEEA2F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C91C3-B319-41C0-A5BA-CA9DA9DC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56CC5-6B3E-47ED-B422-A1E69312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6DCBF-92F6-4C74-8991-56497016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5C8A5-5269-43C5-83FA-6A76B899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FB958-FB5F-4194-A956-F9209B15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F39CE-DC17-491B-88AA-4DE8B288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0A44-753B-4136-BA4E-9F19565202A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F193-1706-42DA-AC6E-6BD6FD9B59A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D4A6-839E-4169-B0B6-50FCE63AC0D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8747-143C-4F05-976A-292395C7788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5AF6-A4DC-407B-9B96-85806A4AC1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2BD0-E0F6-4E71-9B23-A35948C02B9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6E09-FD55-4DA5-924A-47E8FA94507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BC40-3EC5-44E6-A070-19F1C177FF7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EA41-A782-4D54-A09A-651EAC0E3E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F87E-9547-4771-A36B-1739CA753C7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D4FE-E820-4975-93DD-ECCE127FEF6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17C1-0570-4DFE-8751-48ABDF68AC1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324"/>
                </a:solidFill>
                <a:latin typeface="Arial"/>
                <a:ea typeface="Arial"/>
              </a:rPr>
              <a:t>Čestični sastav tv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324"/>
                </a:solidFill>
                <a:latin typeface="Arial"/>
                <a:ea typeface="Arial"/>
              </a:rPr>
              <a:t>Tijela i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"/>
          <p:cNvPicPr/>
          <p:nvPr/>
        </p:nvPicPr>
        <p:blipFill>
          <a:blip r:embed="rId1"/>
          <a:srcRect l="0" t="0" r="59634" b="0"/>
          <a:stretch/>
        </p:blipFill>
        <p:spPr>
          <a:xfrm>
            <a:off x="304920" y="1143000"/>
            <a:ext cx="2971800" cy="38088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609480" y="1828800"/>
            <a:ext cx="769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nastaje pijesak, brašno ili piljevi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se miris parfema širi prostorij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mo nestane šećer kad ga stavimo u čašu s vod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638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304920" y="144792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što se uljna mrlja prestane širi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448480" cy="1695240"/>
          </a:xfrm>
          <a:prstGeom prst="rect">
            <a:avLst/>
          </a:prstGeom>
          <a:ln w="0">
            <a:noFill/>
          </a:ln>
        </p:spPr>
      </p:pic>
      <p:sp>
        <p:nvSpPr>
          <p:cNvPr id="510" name="TextBox 10"/>
          <p:cNvSpPr/>
          <p:nvPr/>
        </p:nvSpPr>
        <p:spPr>
          <a:xfrm>
            <a:off x="1036800" y="5105520"/>
            <a:ext cx="6705000" cy="52056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ebljina mrlje jednaka je veličini jedne molek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Slika 5" descr=""/>
          <p:cNvPicPr/>
          <p:nvPr/>
        </p:nvPicPr>
        <p:blipFill>
          <a:blip r:embed="rId2"/>
          <a:stretch/>
        </p:blipFill>
        <p:spPr>
          <a:xfrm>
            <a:off x="457200" y="852480"/>
            <a:ext cx="13572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4"/>
          <p:cNvSpPr/>
          <p:nvPr/>
        </p:nvSpPr>
        <p:spPr>
          <a:xfrm>
            <a:off x="304920" y="1295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ješanje molekula različitih velič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4732200" cy="24382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304920" y="20570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miješaj 100 mL vode i 100 mL alkoh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0"/>
          <p:cNvSpPr/>
          <p:nvPr/>
        </p:nvSpPr>
        <p:spPr>
          <a:xfrm>
            <a:off x="2001960" y="533412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mo je nestalo 10 mL tekuć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Slika 7" descr=""/>
          <p:cNvPicPr/>
          <p:nvPr/>
        </p:nvPicPr>
        <p:blipFill>
          <a:blip r:embed="rId2"/>
          <a:stretch/>
        </p:blipFill>
        <p:spPr>
          <a:xfrm>
            <a:off x="457200" y="779400"/>
            <a:ext cx="13572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304920" y="1295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ješanje molekula različitih velič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4992480" cy="2452680"/>
          </a:xfrm>
          <a:prstGeom prst="rect">
            <a:avLst/>
          </a:prstGeom>
          <a:ln w="0">
            <a:noFill/>
          </a:ln>
        </p:spPr>
      </p:pic>
      <p:sp>
        <p:nvSpPr>
          <p:cNvPr id="519" name="Content Placeholder 2"/>
          <p:cNvSpPr/>
          <p:nvPr/>
        </p:nvSpPr>
        <p:spPr>
          <a:xfrm>
            <a:off x="380880" y="20574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miješaj 1 dm³ graha  i 1 dm³ ri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9"/>
          <p:cNvSpPr/>
          <p:nvPr/>
        </p:nvSpPr>
        <p:spPr>
          <a:xfrm>
            <a:off x="1182600" y="5181480"/>
            <a:ext cx="676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što je ukupan volumen nakon miješanja man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 zbroja pojedinih volume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Slika 6" descr=""/>
          <p:cNvPicPr/>
          <p:nvPr/>
        </p:nvPicPr>
        <p:blipFill>
          <a:blip r:embed="rId2"/>
          <a:stretch/>
        </p:blipFill>
        <p:spPr>
          <a:xfrm>
            <a:off x="465120" y="779400"/>
            <a:ext cx="135576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4"/>
          <p:cNvSpPr/>
          <p:nvPr/>
        </p:nvSpPr>
        <p:spPr>
          <a:xfrm>
            <a:off x="380880" y="3124080"/>
            <a:ext cx="8564760" cy="2013120"/>
          </a:xfrm>
          <a:prstGeom prst="rect">
            <a:avLst/>
          </a:prstGeom>
          <a:solidFill>
            <a:srgbClr val="fdeada"/>
          </a:solidFill>
          <a:ln w="93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vari se sastoje od sitnih nevidljivih čestic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lekula, između kojih se nalaze prazni međuprost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cestice"/>
          <p:cNvPicPr/>
          <p:nvPr/>
        </p:nvPicPr>
        <p:blipFill>
          <a:blip r:embed="rId1"/>
          <a:stretch/>
        </p:blipFill>
        <p:spPr>
          <a:xfrm>
            <a:off x="2666880" y="857160"/>
            <a:ext cx="2838600" cy="20322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5619240" y="2471760"/>
            <a:ext cx="2049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odel čestič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rađe tvari (kuglice izmeđ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ojih su međuprosto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3"/>
          <p:cNvSpPr/>
          <p:nvPr/>
        </p:nvSpPr>
        <p:spPr>
          <a:xfrm>
            <a:off x="343080" y="1981080"/>
            <a:ext cx="7351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mo nestane šećer kad ga stavimo u čašu s vodo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Zašto se voda oboji kad u nju kapnemo kap tin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Slika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516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38:40Z</dcterms:created>
  <dc:creator>Slavko</dc:creator>
  <dc:description/>
  <dc:language>en-US</dc:language>
  <cp:lastModifiedBy>Tomislav Dumančić</cp:lastModifiedBy>
  <dcterms:modified xsi:type="dcterms:W3CDTF">2019-09-17T09:00:06Z</dcterms:modified>
  <cp:revision>70</cp:revision>
  <dc:subject/>
  <dc:title>Slide 1</dc:title>
</cp:coreProperties>
</file>